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DF2-8778-4AE7-9D98-56BA43FD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71D-3B0F-4B03-89FC-32524FDC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17F-F7BE-4EFF-9AD3-12280377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039-F4D6-4145-9924-BF43C96D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24F-402B-4437-BF06-802ECF05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E71-A2B6-4C30-AF9F-B6EF1CA8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D61-EE8E-42DB-AECA-4DDB9C73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F7C-F324-4266-AEFD-64984E95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EAE-D633-45D7-ABA0-E6F8A0FF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9E8-F6A5-4AD2-BDA2-C4BBD91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B09-6339-4803-9AE5-3828346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720-C2A5-4550-AAC7-C4EB3D61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3FE-8136-4E45-97C2-EAAA46B35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0 Môj Pán ma naši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ôj Pán ma našiel, Priateľ môj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láskou svojou hľa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ž riecť som stihol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yť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ávno už ma čak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nes jeho blízkosť cítiť smiem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jeho ruky chrá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tále bude pri mne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jeho bez prest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ôj Pán ma našiel, Priateľ môj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chotne ma prij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mňa dal aj život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svoju za mňa vy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mojím záchranc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ním sa vďačne skláň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á ma rád, to poznal so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cem s ním byť bez prestania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ôj Pán ma našiel, Priateľ môj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pomoc jeho st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darovať mu živo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iť na jeho chvál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lásky pre mňa priprav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čom ja nemám zda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, aby som s ním večne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 jeho bez presta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06:50:44Z</dcterms:modified>
  <cp:revision>20</cp:revision>
  <dc:subject/>
  <dc:title>Je veľký náš Pán, on slávy je Kráľ Nech do všetkých strán  spev vrúcnych znie chvál.</dc:title>
</cp:coreProperties>
</file>